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1648-1F25-4A9B-A94A-570D49C5AD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BAE4-22E0-4A32-A63A-9AD84910FE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льк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EF61-BE42-478B-9DF9-9E9B598C8E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ак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1A58-C3D6-40A3-BD44-2B400D74CE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ей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31AA-F98B-49A0-93F1-1E6D615459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рзун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0458-4235-4188-B5F1-0ACE7E06E5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а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956C-FE08-4E48-97CB-E57D4C6275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еме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BA68-64AB-4664-9F4A-98DC1378AB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д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61A7-E053-4108-ABD7-C41B36D7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83A1-63A6-4D4F-A9A4-885625DB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9D83-C552-47B4-966A-2E9125C8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A9EA-C7E6-4B6B-ABA7-647338D5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3C02-58D6-441D-A64E-4914974B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5730-7242-4F81-998F-234704BB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81C2-A24E-4D43-A626-135C0331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FFB6-AA10-4BFE-B556-EF5D568A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EA30-8D57-4E46-8CD7-5A491F41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BB32-64AC-4D53-86BC-0DA012DE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427-A669-46E8-A457-87376917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F4C5-5339-4F9F-9963-CA05C2C5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E626-C23D-4A03-B9E3-926887DB2C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SZN"/>
          <p:cNvPicPr/>
          <p:nvPr/>
        </p:nvPicPr>
        <p:blipFill>
          <a:blip r:embed="rId1"/>
          <a:stretch/>
        </p:blipFill>
        <p:spPr>
          <a:xfrm>
            <a:off x="324000" y="260280"/>
            <a:ext cx="1315800" cy="252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476360" y="2739960"/>
            <a:ext cx="661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ниторинг рабо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правлений социальной защиты населения Краснодарского кр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DSZN"/>
          <p:cNvPicPr/>
          <p:nvPr/>
        </p:nvPicPr>
        <p:blipFill>
          <a:blip r:embed="rId1"/>
          <a:stretch/>
        </p:blipFill>
        <p:spPr>
          <a:xfrm>
            <a:off x="250920" y="260280"/>
            <a:ext cx="1315800" cy="25210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1851120" y="538200"/>
            <a:ext cx="61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назначения и выплаты пособий и компенс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1"/>
              <p:cNvSpPr txBox="1"/>
              <p:nvPr/>
            </p:nvSpPr>
            <p:spPr>
              <a:xfrm>
                <a:off x="1316160" y="3141720"/>
                <a:ext cx="74469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количество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личных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дел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получателей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без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замечаний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бщее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количество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проверенных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личных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дел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1763640" y="5068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ры соцподдержки по Ж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1033560" y="3284640"/>
                <a:ext cx="729144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количество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проверенных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личных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дел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получателей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компенсаций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субсидий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без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замечаний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бщее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количество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проверенных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личных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дел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9" name="Picture 8" descr="DSZN"/>
          <p:cNvPicPr/>
          <p:nvPr/>
        </p:nvPicPr>
        <p:blipFill>
          <a:blip r:embed="rId1"/>
          <a:stretch/>
        </p:blipFill>
        <p:spPr>
          <a:xfrm>
            <a:off x="250920" y="260280"/>
            <a:ext cx="13158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692360" y="5493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ументы на помещение в Д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качество и своевременност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DSZN"/>
          <p:cNvPicPr/>
          <p:nvPr/>
        </p:nvPicPr>
        <p:blipFill>
          <a:blip r:embed="rId1"/>
          <a:stretch/>
        </p:blipFill>
        <p:spPr>
          <a:xfrm>
            <a:off x="250920" y="260280"/>
            <a:ext cx="1315800" cy="25210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2340000" y="3500280"/>
            <a:ext cx="540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о документов, оформленных вер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=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е количество 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1692360" y="40464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азание мер соцподдержки  семьям и детя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DSZN"/>
          <p:cNvPicPr/>
          <p:nvPr/>
        </p:nvPicPr>
        <p:blipFill>
          <a:blip r:embed="rId1"/>
          <a:stretch/>
        </p:blipFill>
        <p:spPr>
          <a:xfrm>
            <a:off x="250920" y="260280"/>
            <a:ext cx="1315800" cy="25210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2340000" y="1773360"/>
            <a:ext cx="5400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исло документов представленных М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1 = 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е число документов на именную прем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людей с ограниченными возможност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340000" y="3860640"/>
            <a:ext cx="504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исло документов представленных М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2=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е число документов на награжд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четным дипломом многодетной матер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780000" y="5877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= К1 + К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DSZN"/>
          <p:cNvPicPr/>
          <p:nvPr/>
        </p:nvPicPr>
        <p:blipFill>
          <a:blip r:embed="rId1"/>
          <a:stretch/>
        </p:blipFill>
        <p:spPr>
          <a:xfrm>
            <a:off x="250920" y="260280"/>
            <a:ext cx="1315800" cy="25210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1692360" y="549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ь госучреждений социального обслуживания семьи и де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39640" y="2997360"/>
            <a:ext cx="813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следовано детей-инвалидов       обследовано детей(семей) в ТЖ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=----------------------------------------- + 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его детей-инвалидов                                    всего в ТЖ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1692360" y="40464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ИПР с семьям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ходящимися в  социально опасном положении (СОП) или иной трудной жизненной ситуации (ТЖ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DSZN"/>
          <p:cNvPicPr/>
          <p:nvPr/>
        </p:nvPicPr>
        <p:blipFill>
          <a:blip r:embed="rId1"/>
          <a:stretch/>
        </p:blipFill>
        <p:spPr>
          <a:xfrm>
            <a:off x="250920" y="260280"/>
            <a:ext cx="1315800" cy="25210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3419640" y="1700280"/>
            <a:ext cx="5400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о семей, находящихся в ТЖС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торым оказаны различные виды помощ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1 = 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о малообеспеченных семей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ом образован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95280" y="3860640"/>
            <a:ext cx="6480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о семей, находящихся в СОП или иной ТЖС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ношении которых  проводитс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П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2=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о семей, находящихся в ТЖС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торым оказаны различные виды помощ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995640" y="609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= К1 + К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DSZN"/>
          <p:cNvPicPr/>
          <p:nvPr/>
        </p:nvPicPr>
        <p:blipFill>
          <a:blip r:embed="rId1"/>
          <a:stretch/>
        </p:blipFill>
        <p:spPr>
          <a:xfrm>
            <a:off x="250920" y="260280"/>
            <a:ext cx="1315800" cy="2521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1547640" y="299736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ь управлений социальной защ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бласти регулирования социально-трудовых отнош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DSZN"/>
          <p:cNvPicPr/>
          <p:nvPr/>
        </p:nvPicPr>
        <p:blipFill>
          <a:blip r:embed="rId1"/>
          <a:stretch/>
        </p:blipFill>
        <p:spPr>
          <a:xfrm>
            <a:off x="250920" y="260280"/>
            <a:ext cx="1315800" cy="2521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1692360" y="549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дение аттестации рабочих мест по условиям труда с последующей сертификаци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411280" y="3141720"/>
            <a:ext cx="5400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о предприятий с проведен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тестацией (сертификацией) в 2008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=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е количество предприятий в М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DSZN"/>
          <p:cNvPicPr/>
          <p:nvPr/>
        </p:nvPicPr>
        <p:blipFill>
          <a:blip r:embed="rId1"/>
          <a:stretch/>
        </p:blipFill>
        <p:spPr>
          <a:xfrm>
            <a:off x="250920" y="260280"/>
            <a:ext cx="1315800" cy="25210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1692360" y="5493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храна тру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95280" y="31104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= 1 – (уровень общего производственного травматизма МО +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ровень производственного травматизма со смертельным исходом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DSZN"/>
          <p:cNvPicPr/>
          <p:nvPr/>
        </p:nvPicPr>
        <p:blipFill>
          <a:blip r:embed="rId1"/>
          <a:stretch/>
        </p:blipFill>
        <p:spPr>
          <a:xfrm>
            <a:off x="324000" y="260280"/>
            <a:ext cx="1315800" cy="2521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619640" y="3141360"/>
            <a:ext cx="736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о учреждений с оформленной правоустанавливающ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кументацией на объекты недвижим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= ---------------------------------------------------------------------------------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его объектов недвижим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38520" y="549360"/>
            <a:ext cx="71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дения о государственной регистрации имущ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DSZN"/>
          <p:cNvPicPr/>
          <p:nvPr/>
        </p:nvPicPr>
        <p:blipFill>
          <a:blip r:embed="rId1"/>
          <a:stretch/>
        </p:blipFill>
        <p:spPr>
          <a:xfrm>
            <a:off x="324000" y="260280"/>
            <a:ext cx="1315800" cy="25210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158040" y="2997000"/>
            <a:ext cx="88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о вопросов оцененных положительно по ведению гражданской оборо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= 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е количество вопро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96000" y="4581000"/>
            <a:ext cx="832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о вопросов оцененных положительно по мобилизационной рабо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= 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е количество вопро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763640" y="47628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сударственная служба и кад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543480" y="5899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635280" y="59500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= К1 + К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763640" y="2620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абилитация инвали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7" descr="DSZN"/>
          <p:cNvPicPr/>
          <p:nvPr/>
        </p:nvPicPr>
        <p:blipFill>
          <a:blip r:embed="rId1"/>
          <a:stretch/>
        </p:blipFill>
        <p:spPr>
          <a:xfrm>
            <a:off x="324000" y="260280"/>
            <a:ext cx="1315800" cy="25210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5"/>
              <p:cNvSpPr txBox="1"/>
              <p:nvPr/>
            </p:nvSpPr>
            <p:spPr>
              <a:xfrm>
                <a:off x="2627280" y="1773360"/>
                <a:ext cx="4608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оличество консультаций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оличество инвалидо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Rectangle 3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37"/>
              <p:cNvSpPr txBox="1"/>
              <p:nvPr/>
            </p:nvSpPr>
            <p:spPr>
              <a:xfrm>
                <a:off x="2556000" y="3645000"/>
                <a:ext cx="49687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прошедшие реабилитацию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направленные на реабилитацию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Rectangle 40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39"/>
              <p:cNvSpPr txBox="1"/>
              <p:nvPr/>
            </p:nvSpPr>
            <p:spPr>
              <a:xfrm>
                <a:off x="3276720" y="5084640"/>
                <a:ext cx="2303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=</m:t>
                    </m:r>
                    <m:r>
                      <m:t xml:space="preserve">И</m:t>
                    </m:r>
                    <m:r>
                      <m:t xml:space="preserve">+</m:t>
                    </m:r>
                    <m:r>
                      <m:t xml:space="preserve">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1835280" y="430560"/>
            <a:ext cx="70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ение жильем ветеран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468360" y="3213000"/>
                <a:ext cx="838836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беспеченны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жильем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ключенные</m:t>
                            </m:r>
                          </m:e>
                          <m:sub/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остоящие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на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учете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5" name="Picture 39" descr="DSZN"/>
          <p:cNvPicPr/>
          <p:nvPr/>
        </p:nvPicPr>
        <p:blipFill>
          <a:blip r:embed="rId1"/>
          <a:stretch/>
        </p:blipFill>
        <p:spPr>
          <a:xfrm>
            <a:off x="250920" y="260280"/>
            <a:ext cx="13158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SZN"/>
          <p:cNvPicPr/>
          <p:nvPr/>
        </p:nvPicPr>
        <p:blipFill>
          <a:blip r:embed="rId1"/>
          <a:stretch/>
        </p:blipFill>
        <p:spPr>
          <a:xfrm>
            <a:off x="250920" y="260280"/>
            <a:ext cx="1315800" cy="25210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2050920" y="28260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ность ведения баз данных и предоставления отчет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0" y="3205080"/>
            <a:ext cx="9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468720" y="3198600"/>
            <a:ext cx="827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мма показателей выполнения технологических процессов без нарушений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= 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е количество показате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DSZN"/>
          <p:cNvPicPr/>
          <p:nvPr/>
        </p:nvPicPr>
        <p:blipFill>
          <a:blip r:embed="rId1"/>
          <a:stretch/>
        </p:blipFill>
        <p:spPr>
          <a:xfrm>
            <a:off x="250920" y="260280"/>
            <a:ext cx="1315800" cy="2521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3278880" y="403200"/>
            <a:ext cx="33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исьменные обра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1042920" y="328392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ценка количества поступивших письменных обращений граждан в департамент на 10 000 насе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9"/>
          <p:cNvSpPr/>
          <p:nvPr/>
        </p:nvSpPr>
        <p:spPr>
          <a:xfrm>
            <a:off x="1763640" y="549360"/>
            <a:ext cx="69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ценка экономичекой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0"/>
          <p:cNvSpPr/>
          <p:nvPr/>
        </p:nvSpPr>
        <p:spPr>
          <a:xfrm>
            <a:off x="1042920" y="3645000"/>
            <a:ext cx="78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нт  освоения выделенных средств по муниципальным образования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1" descr="DSZN"/>
          <p:cNvPicPr/>
          <p:nvPr/>
        </p:nvPicPr>
        <p:blipFill>
          <a:blip r:embed="rId1"/>
          <a:stretch/>
        </p:blipFill>
        <p:spPr>
          <a:xfrm>
            <a:off x="250920" y="260280"/>
            <a:ext cx="13158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DSZN"/>
          <p:cNvPicPr/>
          <p:nvPr/>
        </p:nvPicPr>
        <p:blipFill>
          <a:blip r:embed="rId1"/>
          <a:stretch/>
        </p:blipFill>
        <p:spPr>
          <a:xfrm>
            <a:off x="250920" y="260280"/>
            <a:ext cx="1315800" cy="2521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1763640" y="4046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ещение регионального зака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7"/>
              <p:cNvSpPr txBox="1"/>
              <p:nvPr/>
            </p:nvSpPr>
            <p:spPr>
              <a:xfrm>
                <a:off x="2556000" y="2637000"/>
                <a:ext cx="465444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=</m:t>
                    </m:r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фактическая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сумма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закупленных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товаров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путем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проведения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торгов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den>
                        </m:f>
                      </m:e>
                    </m:eqArr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плановая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сумма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приобретаемых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товаров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всеми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способами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закупок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9:18:09Z</dcterms:created>
  <dc:creator>В.С.Стадник</dc:creator>
  <dc:description/>
  <dc:language>en-US</dc:language>
  <cp:lastModifiedBy>Ольга Кособуцкая</cp:lastModifiedBy>
  <dcterms:modified xsi:type="dcterms:W3CDTF">2009-12-18T12:46:09Z</dcterms:modified>
  <cp:revision>38</cp:revision>
  <dc:subject/>
  <dc:title>Слайд 1</dc:title>
</cp:coreProperties>
</file>